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9.jpeg" ContentType="image/jpeg"/>
  <Override PartName="/ppt/media/image7.gif" ContentType="image/gif"/>
  <Override PartName="/ppt/media/image37.gif" ContentType="image/gif"/>
  <Override PartName="/ppt/media/image27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10.gif" ContentType="image/gif"/>
  <Override PartName="/ppt/media/image13.png" ContentType="image/png"/>
  <Override PartName="/ppt/media/image33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8.gif" ContentType="image/gif"/>
  <Override PartName="/ppt/media/image18.jpeg" ContentType="image/jpeg"/>
  <Override PartName="/ppt/media/image34.jpeg" ContentType="image/jpeg"/>
  <Override PartName="/ppt/media/image20.png" ContentType="image/png"/>
  <Override PartName="/ppt/media/image11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.wmf" ContentType="image/x-wmf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media/image17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DEA-CF1A-449E-A433-95A942A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FBC-7420-4CC4-B966-C4B3D45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A62-1AD3-4B87-896A-FCD812B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14C-BBE7-4746-864A-B543E181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432-6F21-48FE-B6AA-06E025FB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A1A-75F9-4659-956D-B987615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8F13-7094-4D53-86F9-5EF5F65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06D-8667-4D7E-9427-6AD3A72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A907-8446-4DF6-8449-EA16060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9FF3-B263-4ECA-A600-2597BEA5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63E-6350-4E5D-8152-74F5B7B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A2A-466D-41EF-9432-3CF3EA3F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FDD6-F591-4416-B6D5-9247667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CE0E-F9D1-4026-873E-9101AF7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1233-C2B9-48C7-BC15-D4B16CCE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791-A475-44B9-A2BB-2757A602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B6E-A859-4DC7-AAF9-F7FC5282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E38-85A8-4721-B072-FBAC2CBF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0DE-DB12-4B99-A755-429A80E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D9A-CCA3-430A-8A53-F782EEB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085-E6E8-4218-B54D-8936FA7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A70-6EEB-43AE-81DD-A4C9C1E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F3D-1210-4FE0-9FE7-894DB1E0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4D7-9FB2-483F-83D0-1095F3B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FC7-2CAE-493B-983E-A35BCAB4421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953-2D84-46BD-8012-FC1D7BC64B5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9144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3716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1828800" algn="ctr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hiller"/>
              </a:rPr>
              <a:t>Halloween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Origenes y tradiciones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324480" y="3733920"/>
          <a:ext cx="22100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733920"/>
                    <a:ext cx="22100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8097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iller"/>
              </a:rPr>
              <a:t>Trick-or-treating began with the poor in the 15</a:t>
            </a:r>
            <a:r>
              <a:rPr b="0" lang="en-US" sz="4400" spc="-1" strike="noStrike" baseline="30000">
                <a:solidFill>
                  <a:srgbClr val="ff9900"/>
                </a:solidFill>
                <a:latin typeface="Chiller"/>
              </a:rPr>
              <a:t>th</a:t>
            </a:r>
            <a:r>
              <a:rPr b="0" lang="en-US" sz="4400" spc="-1" strike="noStrike">
                <a:solidFill>
                  <a:srgbClr val="ff9900"/>
                </a:solidFill>
                <a:latin typeface="Chiller"/>
              </a:rPr>
              <a:t> centur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During the </a:t>
            </a:r>
            <a:r>
              <a:rPr b="0" i="1" lang="en-US" sz="2400" spc="-1" strike="noStrike">
                <a:solidFill>
                  <a:srgbClr val="000000"/>
                </a:solidFill>
                <a:latin typeface="Jokerman"/>
              </a:rPr>
              <a:t>All Souls Day</a:t>
            </a: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 festival in England, poor people would beg for “soul cakes,” made out of square pieces of bread with currants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Families would give soul cakes in return for a promise to pray for the family’s relatives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10080" y="4495680"/>
          <a:ext cx="33530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495680"/>
                    <a:ext cx="33530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35812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then children…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 practice, which was referred to as "going a-souling" was eventually taken up by children who would visit the houses in their neighborhood and be given ale, food, and money. 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2444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638680" y="2057400"/>
          <a:ext cx="3124440" cy="17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057400"/>
                    <a:ext cx="31244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Today: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hildren still go from house-to-house, but instead of ale, food, and money, they get candy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3587760"/>
            <a:ext cx="5715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With Irish Immigratio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In 1848, millions of Irish emigrants poured into America as a result of the potato famine. They brought with them their traditions of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Hallowee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73152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Halloween came to Amer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ey called Halloween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Oidche Shamhna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(`Night of Samhain'), as their ancestors had, and kept the traditional observances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419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The Jack-O-Lante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e Irish used to carry turnips with candles in them to light their way at night and to scare away ghosts.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4057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hiller"/>
              </a:rPr>
              <a:t>When they arrived in America they found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Chiller"/>
              </a:rPr>
              <a:t>that pumpkins were both plentiful and easier to carve than turnips.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4496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hiller"/>
              </a:rPr>
              <a:t>Now, Jack-O-Lanterns are used for decorating people’s hom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58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</a:rPr>
              <a:t>People have recently started carving less traditional Jack-O-Lan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hiller"/>
              </a:rPr>
              <a:t>Today people go to parties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620720"/>
            <a:ext cx="57913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Origi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lloween began two thousand years ago in Ireland, England, and Northern France with the ancient religion of the Celts (Paganism)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45342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hiller"/>
              </a:rPr>
              <a:t>Take their kids trick-or-treating.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343400" cy="404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nd eat lots of cand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2117880" y="247968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wilstar.com/holidays/hallow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10400" y="320040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historychannel.com/hallo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7840" y="44956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fni.com/heritage/oct97/history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38098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en.wikipedia.org/wiki/All_Souls_Day#Pagan_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0" y="419112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9112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838080" y="3808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Happy Hallowe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14400" y="457200"/>
            <a:ext cx="5410080" cy="73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They celebrated their New</a:t>
            </a: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 </a:t>
            </a: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Year on November 1</a:t>
            </a:r>
            <a:r>
              <a:rPr b="1" lang="en-US" sz="4800" spc="-1" strike="noStrike" baseline="30000">
                <a:solidFill>
                  <a:srgbClr val="ff9900"/>
                </a:solidFill>
                <a:latin typeface="Chiller"/>
              </a:rPr>
              <a:t>st</a:t>
            </a:r>
            <a:r>
              <a:rPr b="1" lang="en-US" sz="4800" spc="-1" strike="noStrike">
                <a:solidFill>
                  <a:srgbClr val="ff9900"/>
                </a:solidFill>
                <a:latin typeface="Chille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s day marked the beginning of the dark, cold winter, a time of year that was often associated with human death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715000" cy="2990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2438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Samhain (</a:t>
            </a:r>
            <a:r>
              <a:rPr b="1" i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sow-in)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On the night of October 31, they celebrat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Samhai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when it was believed that the ghosts of the dead returned to earth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14600" y="49528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86200" y="45720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943600" y="4648320"/>
            <a:ext cx="533520" cy="761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71800" y="39625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486400" y="4191120"/>
            <a:ext cx="380880" cy="53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00"/>
                </a:solidFill>
                <a:uFillTx/>
                <a:latin typeface="Chiller"/>
              </a:rPr>
              <a:t>Costum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People thought that they would encounter ghosts if they left their homes…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17k"/>
          <p:cNvPicPr/>
          <p:nvPr/>
        </p:nvPicPr>
        <p:blipFill>
          <a:blip r:embed="rId2"/>
          <a:stretch/>
        </p:blipFill>
        <p:spPr>
          <a:xfrm>
            <a:off x="6553080" y="48769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16k"/>
          <p:cNvPicPr/>
          <p:nvPr/>
        </p:nvPicPr>
        <p:blipFill>
          <a:blip r:embed="rId3"/>
          <a:stretch/>
        </p:blipFill>
        <p:spPr>
          <a:xfrm>
            <a:off x="7391520" y="335268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27k"/>
          <p:cNvPicPr/>
          <p:nvPr/>
        </p:nvPicPr>
        <p:blipFill>
          <a:blip r:embed="rId4"/>
          <a:stretch/>
        </p:blipFill>
        <p:spPr>
          <a:xfrm>
            <a:off x="0" y="365760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25k"/>
          <p:cNvPicPr/>
          <p:nvPr/>
        </p:nvPicPr>
        <p:blipFill>
          <a:blip r:embed="rId5"/>
          <a:stretch/>
        </p:blipFill>
        <p:spPr>
          <a:xfrm>
            <a:off x="1828800" y="4800600"/>
            <a:ext cx="1609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hiller"/>
              </a:rPr>
              <a:t>So they wore costumes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s way, the ghosts couldn’t recognize them!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8102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Chiller"/>
              </a:rPr>
              <a:t>The Christian Influ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As the influence of Christianity spread into Celtic lands, i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century, Pope Boniface IV introduc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aints' Day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a time to honor saints and martyrs, to replace the Pagan festival of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Samhain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It was observed on May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86600" y="4476600"/>
            <a:ext cx="1628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 change of d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In 834, Pope Gregory III mov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aint's Day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from May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 to Nov.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. Oct. 3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thus became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Hallows' Eve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('hallow' means 'saint').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hiller"/>
              </a:rPr>
              <a:t>All Souls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Novemb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Joker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, called </a:t>
            </a:r>
            <a:r>
              <a:rPr b="0" i="1" lang="en-US" sz="2800" spc="-1" strike="noStrike">
                <a:solidFill>
                  <a:srgbClr val="000000"/>
                </a:solidFill>
                <a:latin typeface="Jokerman"/>
              </a:rPr>
              <a:t>All Souls Day, is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 the day set apart in the Roman Catholic Church for the commemoration of the dead. 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26290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4:15:04Z</dcterms:created>
  <dc:creator>Virginia Wesleyan College</dc:creator>
  <dc:description/>
  <dc:language>en-US</dc:language>
  <cp:lastModifiedBy>Helen Zumaeta</cp:lastModifiedBy>
  <dcterms:modified xsi:type="dcterms:W3CDTF">2012-10-26T13:30:33Z</dcterms:modified>
  <cp:revision>57</cp:revision>
  <dc:subject/>
  <dc:title>Halloween origins and traditions</dc:title>
</cp:coreProperties>
</file>